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9689-053E-4625-BF93-3A1B1D34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584C-B78D-4C94-B6D5-A38F2A2B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B25-F730-4AE7-ABD1-D80D728B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6F3-B670-4458-9BE3-11E82B84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E42-4DC0-46E2-B055-16A4CEEA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F80E-F4F0-4DF6-8F8D-349CAE03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440-D751-493A-BA74-568610B8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C6C-C728-4F94-B8FA-51BA1762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8236-38BB-4103-B3C9-4FCD808B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B78-D24D-43B5-B13F-320C16C5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365-EB26-4631-8173-A1B8A148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AE5-42EF-49DE-AC5D-12A74DEB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13200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E3EF-BD9B-4DD4-9380-F80E09736805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HE_RD_ES Know How Ramp up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Minion"/>
              </a:rPr>
              <a:t>PHE RD </a:t>
            </a:r>
            <a:r>
              <a:rPr b="1" lang="zh-TW" sz="4800" spc="-1" strike="noStrike">
                <a:solidFill>
                  <a:srgbClr val="ffffff"/>
                </a:solidFill>
                <a:latin typeface="Minion"/>
              </a:rPr>
              <a:t>ES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J.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RD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v1, 26.01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F933-8873-4A25-94CF-C165E18941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-sourcing of key Know How at PHE RD ES Munich: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49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Engineering service Munich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2 additional headcount as replacement of 2 key external engineers, who are not willing to change to BenQ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un/Solaris/Unix/Linux and data mgmt. for config. mgmt. system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indows OS/Active Directory/Novel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: replacement and know how transfer finished June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  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r know how transfer overlap of up to 3 month necessar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In-sourcing of 1 external engineer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User Hotline Management and VIP Suppor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ramp up finished: April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742-B054-46D6-9600-94CA61B7EE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8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-sourcing of key Know How at PHE RD ES Klf: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439120" cy="482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Engineering service Klf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1 additional headcount as replacement of 1 key external engineer, who is not willing to change to BenQ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Unix/Linux and data mgmt. for config. mgmt. system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: replacement and know how transfer finished June 06 (best case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   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r know how transfer overlap of up to 3 month necessar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In-sourcing of 2 external engineer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indows OS/Active Directory/Novell/</a:t>
            </a: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Scripting/Backup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ramp up finished: April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F1A-6C9A-4CAB-8F23-93FCA31959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amp up of Key Know How at PHE RD ES H: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836640"/>
            <a:ext cx="830592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Configuration management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tatus today: only 1 headcount in 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3 additional headcount in Munich / Kamp-Lintfor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ethodology, concepts, strategy, tool design, scripting architectur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aching and alignment with sites and proje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cripting, tests, administration, 2nd level support, license mgmt.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ramp up finished: July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70B-0201-4291-A064-7981F57200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amp up of Key Know How at PHE RD ES H: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836640"/>
            <a:ext cx="83059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Requirements engineering (Doors)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tatus today: only 1 headcount in 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7 External, thereof 2 from PBM supporting Key Know How (see below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2 additional headcount in Munich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ethodology, concepts, strategy, tool design,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aching / train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ramp up finished: July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0073-816B-4006-B232-24D19D77F1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amp up of Key Know How at PHE RD ES H: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3055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Project planning (Primavera)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cided to be integrated in 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ransfer from Aal to Munich necessar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tatus today: 6 engineers in Aal, thereof 2 plann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4 additional headcount in Munich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ethodology, concepts, strateg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ports and Controlling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aching / train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ool administration, hotline, 2nd and 3rd level suppor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ramp up finished: July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C75-5F48-4477-A886-6E463CAF8B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amp up of Key Know How at PHE RD ES H: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3055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Further tools to be decided how to handle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ntroduction of Testdirecto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hange Request ligh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lear Ques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ay need additional Know How ramp up in R&amp;D.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403C-15FC-4B66-9818-53E02348AF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8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amp up of Key Know How at PHE RD ES: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764676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Summarization of targets for headcount increase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2565360"/>
          <a:ext cx="8218440" cy="2524320"/>
        </p:xfrm>
        <a:graphic>
          <a:graphicData uri="http://schemas.openxmlformats.org/drawingml/2006/table">
            <a:tbl>
              <a:tblPr/>
              <a:tblGrid>
                <a:gridCol w="1044360"/>
                <a:gridCol w="1198800"/>
                <a:gridCol w="853920"/>
                <a:gridCol w="852480"/>
                <a:gridCol w="854280"/>
                <a:gridCol w="853920"/>
                <a:gridCol w="854280"/>
                <a:gridCol w="852480"/>
                <a:gridCol w="8539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rz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Apr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ai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Jun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Jul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Aug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ep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ES M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ES Kl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ES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Conf. Mgm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ES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Req. Mgm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ES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rimav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u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214-40B4-4104-8D60-AF4834E7B8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1-30T09:14:37Z</dcterms:modified>
  <cp:revision>125</cp:revision>
  <dc:subject/>
  <dc:title>PowerPoint 簡報</dc:title>
</cp:coreProperties>
</file>